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E70-5D47-484A-9E43-9E6B9742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EA6-2679-4DC2-B7B0-C7FC0C0D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5DD-0553-42A3-98BB-10174752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DB6-EAA7-452E-A84D-9C7EADD7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F06-DFDE-4092-9A21-80E202FC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3A3-871C-4876-9328-AB3BDD2E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A2A-243C-4A49-934A-902AE8E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899-C91E-4085-893A-462F0A95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5F5-9DA5-414C-96A1-D517CF3E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1A7-7A12-47DD-8ED5-4DF6F1AA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D8E-AF45-4F36-A3EE-1F2FFFD0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960-F0FA-4C5C-A1C9-151F321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47C6-EBA7-404B-86F2-6C17EE520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fulbright.no/filestore/Film_72.jpg&amp;imgrefurl=http://www.fulbright.no/EducationUSA_-_Studier_i_USA/Informasjon_om_forskjellige_fag/&amp;usg=__lpRoi7ph5F9nbkwlSnHHffEVUMk=&amp;h=461&amp;w=614&amp;sz=43&amp;hl=en&amp;start=3&amp;tbnid=9E-qYpznEDfT_M:&amp;tbnh=102&amp;tbnw=136&amp;prev=/images%3Fq%3Dfilm%26gbv%3D2%26hl%3Den%26safe%3Dactive%26sa%3DG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perfectworld.org/clipart/entertainment/radio01.gif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844640"/>
            <a:ext cx="633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Propagan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465300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Nazi Ger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3357720"/>
            <a:ext cx="86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Snap ITC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734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ath lies with Marx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"/>
          <p:cNvPicPr/>
          <p:nvPr/>
        </p:nvPicPr>
        <p:blipFill>
          <a:blip r:embed="rId2"/>
          <a:stretch/>
        </p:blipFill>
        <p:spPr>
          <a:xfrm>
            <a:off x="2124000" y="1700280"/>
            <a:ext cx="5040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5660640"/>
            <a:ext cx="8516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sters advertising the film – The Eternal J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"/>
          <p:cNvPicPr/>
          <p:nvPr/>
        </p:nvPicPr>
        <p:blipFill>
          <a:blip r:embed="rId2"/>
          <a:stretch/>
        </p:blipFill>
        <p:spPr>
          <a:xfrm>
            <a:off x="324000" y="836640"/>
            <a:ext cx="3247920" cy="462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981000"/>
            <a:ext cx="3413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image"/>
          <p:cNvPicPr/>
          <p:nvPr/>
        </p:nvPicPr>
        <p:blipFill>
          <a:blip r:embed="rId2"/>
          <a:stretch/>
        </p:blipFill>
        <p:spPr>
          <a:xfrm>
            <a:off x="5364000" y="765000"/>
            <a:ext cx="3462480" cy="518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3457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mage"/>
          <p:cNvPicPr/>
          <p:nvPr/>
        </p:nvPicPr>
        <p:blipFill>
          <a:blip r:embed="rId2"/>
          <a:stretch/>
        </p:blipFill>
        <p:spPr>
          <a:xfrm>
            <a:off x="5003640" y="836640"/>
            <a:ext cx="374040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ealth, child protection, fighting poverty, aiding travellers, community, helping mothers: These are the tasks of the National Socialist People's Charity. Become a member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ler is considered to have been one of the greatest public speakers of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41767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3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o wardens appointed to report on people’s reactions to specific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sions made for cheap radios call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people’s rece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olksemp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g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not pick up foreign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 1932-9 the number of families with radios rose from 25% to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37016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369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was used to show Hitler in a positive light as often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zi’s commissioned several films, each carefully portraying a certain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300720" y="40464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zi government bought up shares in 4 major film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m going quadrupled between 1933 and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films produced during the Third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42 film companies completely state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oring newspapers ensures that only the news you want people to read is available to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arty members wrote many articles for the press, ensuring that the message was alway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ny publications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097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634920" y="1628640"/>
            <a:ext cx="53499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33 there were 4,700 daily newspapers, 3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44 997 daily newspapers, 82% controlled by NS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1933 all editors and journalists had to be accredited by Goeb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31687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the lie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Make i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Keep saying it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ventually they will believe it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dolf Hitler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had a rich classical tradition which suited the Nazi’s cultural propaganda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ish composers, e.g. Mahler and Mendelssohn wer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nazi german propaganda"/>
          <p:cNvPicPr/>
          <p:nvPr/>
        </p:nvPicPr>
        <p:blipFill>
          <a:blip r:embed="rId2"/>
          <a:stretch/>
        </p:blipFill>
        <p:spPr>
          <a:xfrm>
            <a:off x="5148360" y="1125360"/>
            <a:ext cx="38098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ow successful was Nazi propagan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trengthened support for Hitler, but not its policies e.g. anti-Semi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zi’s gained support from propaganda when it played on traditional German prejudices such as nationalism and a fear of Bolshev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y not have appealed to all groups in German socie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What is propagan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the use of the Media to aggressively promote one point of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aganda is ‘brainwashing’ of the public, convincing them of an ideological view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s Censorsh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52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orship is the suppression of speech or deletion of communicative material which may be considered objectionable, harmful or sensitive, as determined by a cens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3051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53388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azi’s quickly recognised the value of the media. From the early days of the party they used aggressive advertising to promote the Nazi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157464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012000" y="350028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867280" y="549360"/>
            <a:ext cx="30196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 was in charge of ‘enlightening’ the German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Verdana"/>
              </a:rPr>
              <a:t>Hitler gave him the title of Minister of Propaganda and Enlighte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278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What methods did </a:t>
            </a:r>
            <a:br>
              <a:rPr sz="4000"/>
            </a:b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the Nazi’s use?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3213000"/>
            <a:ext cx="3529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6702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316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P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51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ers are cheap and easy to dis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ced in prominent positions they act as a constant reminder of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used for many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9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57337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Vote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241800" cy="475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3219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7:14:21Z</dcterms:created>
  <dc:creator>OEM</dc:creator>
  <dc:description/>
  <dc:language>en-US</dc:language>
  <cp:lastModifiedBy>OEM</cp:lastModifiedBy>
  <dcterms:modified xsi:type="dcterms:W3CDTF">2009-03-09T07:26:46Z</dcterms:modified>
  <cp:revision>7</cp:revision>
  <dc:subject/>
  <dc:title>Slide 1</dc:title>
</cp:coreProperties>
</file>