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5572-72AC-45A2-9D28-1F3E2424E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4EC2-8192-4DF9-992F-27B44A23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4163-054C-4065-B50C-E344522AD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A73C-8792-4BC2-A133-75206DE0B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C3C1-78A8-4FAD-A696-92AA6080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BB75-865C-4AC7-95DB-29E1F8E9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28DE-B936-4C55-8D36-B683ED9E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C6FB-4FB6-4A91-99F8-F8390D33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37E3-A525-4348-B522-E6A027AC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C4E7-CBBE-475E-903C-1C3DDBFA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36EE-0BC2-4868-A482-D1252866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ACC2-042C-40B6-A329-B96A6AE7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13AD-9396-4262-886B-55A0BDF73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nz/imgres?imgurl=http://www.fulbright.no/filestore/Film_72.jpg&amp;imgrefurl=http://www.fulbright.no/EducationUSA_-_Studier_i_USA/Informasjon_om_forskjellige_fag/&amp;usg=__lpRoi7ph5F9nbkwlSnHHffEVUMk=&amp;h=461&amp;w=614&amp;sz=43&amp;hl=en&amp;start=3&amp;tbnid=9E-qYpznEDfT_M:&amp;tbnh=102&amp;tbnw=136&amp;prev=/images%3Fq%3Dfilm%26gbv%3D2%26hl%3Den%26safe%3Dactive%26sa%3DG" TargetMode="External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perfectworld.org/clipart/entertainment/radio01.gif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32000" y="1844640"/>
            <a:ext cx="6337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Snap ITC"/>
              </a:rPr>
              <a:t>Propagand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Snap ITC"/>
              <a:ea typeface="Snap ITC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55640" y="4653000"/>
            <a:ext cx="7777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Snap ITC"/>
              </a:rPr>
              <a:t>Nazi German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Snap ITC"/>
              <a:ea typeface="Snap ITC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924360" y="3357720"/>
            <a:ext cx="865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Snap ITC"/>
              </a:rPr>
              <a:t>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Snap ITC"/>
              <a:ea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5280" y="57340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Death lies with Marx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image"/>
          <p:cNvPicPr/>
          <p:nvPr/>
        </p:nvPicPr>
        <p:blipFill>
          <a:blip r:embed="rId2"/>
          <a:stretch/>
        </p:blipFill>
        <p:spPr>
          <a:xfrm>
            <a:off x="2124000" y="1700280"/>
            <a:ext cx="504036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24000" y="5660640"/>
            <a:ext cx="85168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Posters advertising the film – The Eternal J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image"/>
          <p:cNvPicPr/>
          <p:nvPr/>
        </p:nvPicPr>
        <p:blipFill>
          <a:blip r:embed="rId2"/>
          <a:stretch/>
        </p:blipFill>
        <p:spPr>
          <a:xfrm>
            <a:off x="324000" y="836640"/>
            <a:ext cx="3247920" cy="4629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076720" y="981000"/>
            <a:ext cx="34131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image"/>
          <p:cNvPicPr/>
          <p:nvPr/>
        </p:nvPicPr>
        <p:blipFill>
          <a:blip r:embed="rId2"/>
          <a:stretch/>
        </p:blipFill>
        <p:spPr>
          <a:xfrm>
            <a:off x="5364000" y="765000"/>
            <a:ext cx="3462480" cy="5185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95280" y="836640"/>
            <a:ext cx="345744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image"/>
          <p:cNvPicPr/>
          <p:nvPr/>
        </p:nvPicPr>
        <p:blipFill>
          <a:blip r:embed="rId2"/>
          <a:stretch/>
        </p:blipFill>
        <p:spPr>
          <a:xfrm>
            <a:off x="5003640" y="836640"/>
            <a:ext cx="3740400" cy="55450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Health, child protection, fighting poverty, aiding travellers, community, helping mothers: These are the tasks of the National Socialist People's Charity. Become a member!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33399"/>
                </a:solidFill>
                <a:latin typeface="Arial"/>
              </a:rPr>
              <a:t>Ra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tler is considered to have been one of the greatest public speakers of all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556000" y="3573360"/>
            <a:ext cx="417672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95280" y="2133720"/>
            <a:ext cx="83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dio wardens appointed to report on people’s reactions to specific broad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sions made for cheap radios called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olksempf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ä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ge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people’s receiv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olksempf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ä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ge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uld not pick up foreign broad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tween 1932-9 the number of families with radios rose from 25% to 7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524720" y="189000"/>
            <a:ext cx="1370160" cy="1871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13698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Fil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5280" y="263664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m was used to show Hitler in a positive light as often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zi’s commissioned several films, each carefully portraying a certain im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m going quadrupled between 1933 and 194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620640"/>
            <a:ext cx="2305080" cy="1728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300720" y="404640"/>
            <a:ext cx="2448000" cy="18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zi government bought up shares in 4 major film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m going quadrupled between 1933 and 19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1000 films produced during the Third Re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1942 film companies completely state contro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Newspa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ensoring newspapers ensures that only the news you want people to read is available to the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Nazi party members wrote many articles for the press, ensuring that the message was always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ny publications were ban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20973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634920" y="1628640"/>
            <a:ext cx="53499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933 there were 4,700 daily newspapers, 3% controlled by NS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944 997 daily newspapers, 82% controlled by NS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m 1933 all editors and journalists had to be accredited by Goebb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79280" y="2708280"/>
            <a:ext cx="316872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Make the lie b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Make it si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Keep saying it,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ventually they will believe it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Adolf Hitler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691920"/>
            <a:ext cx="388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33399"/>
                </a:solidFill>
                <a:latin typeface="Arial"/>
              </a:rPr>
              <a:t>Mus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many had a rich classical tradition which suited the Nazi’s cultural propaganda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wish composers, e.g. Mahler and Mendelssohn were ban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nazi german propaganda"/>
          <p:cNvPicPr/>
          <p:nvPr/>
        </p:nvPicPr>
        <p:blipFill>
          <a:blip r:embed="rId2"/>
          <a:stretch/>
        </p:blipFill>
        <p:spPr>
          <a:xfrm>
            <a:off x="5148360" y="1125360"/>
            <a:ext cx="380988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How successful was Nazi propagan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strengthened support for Hitler, but not its policies e.g. anti-Semit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zi’s gained support from propaganda when it played on traditional German prejudices such as nationalism and a fear of Bolshev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May not have appealed to all groups in German socie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33399"/>
                </a:solidFill>
                <a:latin typeface="Arial"/>
              </a:rPr>
              <a:t>What is propagand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paganda is the use of the Media to aggressively promote one point of vi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paganda is ‘brainwashing’ of the public, convincing them of an ideological view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hat is Censorshi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2708280"/>
            <a:ext cx="525636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sorship is the suppression of speech or deletion of communicative material which may be considered objectionable, harmful or sensitive, as determined by a cens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796000" y="2852640"/>
            <a:ext cx="305100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5280" y="2491920"/>
            <a:ext cx="5338800" cy="38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Nazi’s quickly recognised the value of the media. From the early days of the party they used aggressive advertising to promote the Nazi ide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260280"/>
            <a:ext cx="1574640" cy="1944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012000" y="3500280"/>
            <a:ext cx="2857320" cy="2486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867280" y="549360"/>
            <a:ext cx="3019680" cy="21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10920" y="162864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Goebbels was in charge of ‘enlightening’ the German publ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Hitler gave him the title of Minister of Propaganda and Enlighte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64000" y="1628640"/>
            <a:ext cx="32785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8920" y="1699920"/>
            <a:ext cx="48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333399"/>
                </a:solidFill>
                <a:latin typeface="Arial"/>
              </a:rPr>
              <a:t>What methods did </a:t>
            </a:r>
            <a:br>
              <a:rPr sz="4000"/>
            </a:br>
            <a:r>
              <a:rPr b="0" lang="en-NZ" sz="4000" spc="-1" strike="noStrike">
                <a:solidFill>
                  <a:srgbClr val="333399"/>
                </a:solidFill>
                <a:latin typeface="Arial"/>
              </a:rPr>
              <a:t>the Nazi’s use?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0920" y="3213000"/>
            <a:ext cx="352908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wspa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148360" y="1052640"/>
            <a:ext cx="36702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3640" y="691920"/>
            <a:ext cx="316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33399"/>
                </a:solidFill>
                <a:latin typeface="Arial"/>
              </a:rPr>
              <a:t>Po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519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sters are cheap and easy to distrib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ced in prominent positions they act as a constant reminder of ide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n be used for many purp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724360" y="1700280"/>
            <a:ext cx="2926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57337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Vote Hit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68360" y="836640"/>
            <a:ext cx="3241800" cy="4753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508720" y="692280"/>
            <a:ext cx="321948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07:14:21Z</dcterms:created>
  <dc:creator>OEM</dc:creator>
  <dc:description/>
  <dc:language>en-US</dc:language>
  <cp:lastModifiedBy>OEM</cp:lastModifiedBy>
  <dcterms:modified xsi:type="dcterms:W3CDTF">2009-03-09T07:26:46Z</dcterms:modified>
  <cp:revision>7</cp:revision>
  <dc:subject/>
  <dc:title>Slide 1</dc:title>
</cp:coreProperties>
</file>