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2C5-E2B8-4083-9F3E-3B28B09C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020-6541-45C5-975F-F6C5594B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2F5-C11B-4158-AD1A-CDAC0A97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2AE-3C14-4616-B721-4A1F703B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F55-B208-4E09-8CBE-D2D588A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1A3-5741-44A4-9C35-5F318074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904-545B-4D72-BF64-CFE30E68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8AE-67E4-49AF-A208-C8013BDB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759-4473-4FB5-8E1F-79ED6072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EE2-E3D2-4012-ACEE-428797B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6AA-F15F-461F-B611-93DF57BE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F72-857B-451D-A81A-E4DA32D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D150-8EEA-4A7E-93E0-A319A653F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fulbright.no/filestore/Film_72.jpg&amp;imgrefurl=http://www.fulbright.no/EducationUSA_-_Studier_i_USA/Informasjon_om_forskjellige_fag/&amp;usg=__lpRoi7ph5F9nbkwlSnHHffEVUMk=&amp;h=461&amp;w=614&amp;sz=43&amp;hl=en&amp;start=3&amp;tbnid=9E-qYpznEDfT_M:&amp;tbnh=102&amp;tbnw=136&amp;prev=/images%3Fq%3Dfilm%26gbv%3D2%26hl%3Den%26safe%3Dactive%26sa%3D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erfectworld.org/clipart/entertainment/radio01.gi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844640"/>
            <a:ext cx="63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Propagan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465300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Nazi Ger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335772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734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ath lies with Marx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"/>
          <p:cNvPicPr/>
          <p:nvPr/>
        </p:nvPicPr>
        <p:blipFill>
          <a:blip r:embed="rId2"/>
          <a:stretch/>
        </p:blipFill>
        <p:spPr>
          <a:xfrm>
            <a:off x="2124000" y="1700280"/>
            <a:ext cx="5040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5660640"/>
            <a:ext cx="8516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ters advertising the film – The Eternal J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"/>
          <p:cNvPicPr/>
          <p:nvPr/>
        </p:nvPicPr>
        <p:blipFill>
          <a:blip r:embed="rId2"/>
          <a:stretch/>
        </p:blipFill>
        <p:spPr>
          <a:xfrm>
            <a:off x="324000" y="836640"/>
            <a:ext cx="3247920" cy="462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341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image"/>
          <p:cNvPicPr/>
          <p:nvPr/>
        </p:nvPicPr>
        <p:blipFill>
          <a:blip r:embed="rId2"/>
          <a:stretch/>
        </p:blipFill>
        <p:spPr>
          <a:xfrm>
            <a:off x="5364000" y="765000"/>
            <a:ext cx="3462480" cy="518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57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mage"/>
          <p:cNvPicPr/>
          <p:nvPr/>
        </p:nvPicPr>
        <p:blipFill>
          <a:blip r:embed="rId2"/>
          <a:stretch/>
        </p:blipFill>
        <p:spPr>
          <a:xfrm>
            <a:off x="5003640" y="836640"/>
            <a:ext cx="374040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ealth, child protection, fighting poverty, aiding travellers, community, helping mothers: These are the tasks of the National Socialist People's Charity. Become a member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ler is considered to have been one of the greatest public speak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1767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 wardens appointed to report on people’s reactions to specific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sions made for cheap radios call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eople’s rece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not pick up foreign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1932-9 the number of families with radios rose from 25% to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70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was used to show Hitler in a positive light as often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’s commissioned several films, each carefully portraying a certai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 government bought up shares in 4 major film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films produced during the Third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2 film companies completely state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97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634920" y="1628640"/>
            <a:ext cx="5349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33 there were 4,700 daily newspapers, 3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44 997 daily newspapers, 82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1933 all editors and journalists had to be accredited by Goeb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1687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the li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Keep saying it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ventually they will believe it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dolf Hitler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had a rich classical tradition which suited the Nazi’s cultural propaganda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composers, e.g. Mahler and Mendelssohn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nazi german propaganda"/>
          <p:cNvPicPr/>
          <p:nvPr/>
        </p:nvPicPr>
        <p:blipFill>
          <a:blip r:embed="rId2"/>
          <a:stretch/>
        </p:blipFill>
        <p:spPr>
          <a:xfrm>
            <a:off x="5148360" y="1125360"/>
            <a:ext cx="38098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successful was Nazi propag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trengthened support for Hitler, but not its policies e.g. anti-Semi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i’s gained support from propaganda when it played on traditional German prejudices such as nationalism and a fear of Bolshev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y not have appealed to all groups in German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ensorsh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orship is the suppression of speech or deletion of communicative material which may be considered objectionable, harmful or sensitive, as determined by a cen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3051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53388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5746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549360"/>
            <a:ext cx="30196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itler gave him the title of Minister of Propaganda and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8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What methods did </a:t>
            </a:r>
            <a:br>
              <a:rPr sz="4000"/>
            </a:b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the Nazi’s use?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3213000"/>
            <a:ext cx="352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670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316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1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9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ote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4180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3219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4:21Z</dcterms:created>
  <dc:creator>OEM</dc:creator>
  <dc:description/>
  <dc:language>en-US</dc:language>
  <cp:lastModifiedBy>OEM</cp:lastModifiedBy>
  <dcterms:modified xsi:type="dcterms:W3CDTF">2009-03-09T07:26:46Z</dcterms:modified>
  <cp:revision>7</cp:revision>
  <dc:subject/>
  <dc:title>Slide 1</dc:title>
</cp:coreProperties>
</file>