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D4260-D20D-430E-9877-DEACAABF0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7CE8-EE50-4EF7-B537-C6D94C8B3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B95F5-41C4-48E9-BAD5-7012273B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4C07F-0617-4CB8-97DF-3F37057BF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8E27B-CD84-45B4-914B-7C8F4B37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C09D0-2081-472D-B5BB-AA7580323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655E9-B21A-4F31-B8EA-0BB3EF37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59B4-D13A-4870-83A7-EF5F88E0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56ECA-0871-4B93-B484-09E6A4C7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C89B-FF29-4161-83ED-67A35844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0130-8F40-4CD2-8524-3005AFAD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5C77-2C1B-4A3B-8822-314052ADA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0AEB-64C3-4596-A19A-5B7F2BD7C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Jokerman"/>
              </a:rPr>
              <a:t>World War I</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rief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547640" y="1628640"/>
            <a:ext cx="5977080" cy="46324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eropla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Western Front</a:t>
            </a:r>
            <a:endParaRPr b="0" lang="en-US" sz="4400" spc="-1" strike="noStrike">
              <a:solidFill>
                <a:srgbClr val="000000"/>
              </a:solidFill>
              <a:latin typeface="Arial"/>
            </a:endParaRPr>
          </a:p>
        </p:txBody>
      </p:sp>
      <p:sp>
        <p:nvSpPr>
          <p:cNvPr id="75" name="PlaceHolder 2"/>
          <p:cNvSpPr>
            <a:spLocks noGrp="1"/>
          </p:cNvSpPr>
          <p:nvPr>
            <p:ph/>
          </p:nvPr>
        </p:nvSpPr>
        <p:spPr>
          <a:xfrm>
            <a:off x="457200" y="4149720"/>
            <a:ext cx="8362800" cy="197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stern Front was marked by a system of trenches and fortifications separated by an area known as no man's land. These fortifications stretched more than 600 kilometres. </a:t>
            </a:r>
            <a:endParaRPr b="0" lang="en-US" sz="2800" spc="-1" strike="noStrike">
              <a:solidFill>
                <a:srgbClr val="000000"/>
              </a:solidFill>
              <a:latin typeface="Arial"/>
            </a:endParaRPr>
          </a:p>
        </p:txBody>
      </p:sp>
      <p:pic>
        <p:nvPicPr>
          <p:cNvPr id="76" name="" descr="diagram"/>
          <p:cNvPicPr/>
          <p:nvPr/>
        </p:nvPicPr>
        <p:blipFill>
          <a:blip r:embed="rId1"/>
          <a:stretch/>
        </p:blipFill>
        <p:spPr>
          <a:xfrm>
            <a:off x="2340000" y="1268280"/>
            <a:ext cx="4610160" cy="253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92360" y="1484280"/>
            <a:ext cx="5738760" cy="4384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fe in the Tren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Other Fro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 trench warfare on the Eastern front because of the vast size of the front. This made it very hard to def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lso fighting on the Balkan Front, the Middle Eastern Front and the Italian Front; as well as at sea and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08000" y="907920"/>
            <a:ext cx="5410440" cy="48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New Zealand involvement in WWI</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00 000 New Zealanders fought on the side of the British in WWI. The population of New Zealand at this time was just over 1 mill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otal of 18,500 New Zealanders died in or because of the war, and nearly 50,000 more were wounded. Of the total number who died, over 2700 died at Gallipoli, and 12,500 died on the Western Fr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End of the Wa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ntral Powers began to collapse in October 191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11 November an armistice with Germany was signed in a railroad carriage at Compiègne. At 11 a.m. on 11 November 19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Peace Settlemen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June 1919 a peace settlement was finally signed. This was known as the Treaty of Versail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the time know one was to know that the origins of World War II would be traced back to this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
          <p:cNvSpPr/>
          <p:nvPr/>
        </p:nvSpPr>
        <p:spPr>
          <a:xfrm>
            <a:off x="468360" y="1628640"/>
            <a:ext cx="3743280" cy="432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lliance System meant that if war broke in Europe, many countries would soon be involv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Alliance System &amp; Nationalism</a:t>
            </a:r>
            <a:endParaRPr b="0" lang="en-US" sz="40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starting to develop a sense of nationalism that led to them wanting to govern themselves not be governed by an imperial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1268280"/>
            <a:ext cx="5400360" cy="51674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48" name="" descr=""/>
          <p:cNvPicPr/>
          <p:nvPr/>
        </p:nvPicPr>
        <p:blipFill>
          <a:blip r:embed="rId2"/>
          <a:stretch/>
        </p:blipFill>
        <p:spPr>
          <a:xfrm>
            <a:off x="5796000" y="2924280"/>
            <a:ext cx="2952720" cy="133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836640"/>
            <a:ext cx="2303640" cy="1923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bian Group – The Black Hand assassinate the heir to the Austria throne, Arch Duke Franz Ferdinand.</a:t>
            </a:r>
            <a:endParaRPr b="0" lang="en-US" sz="2000" spc="-1" strike="noStrike">
              <a:solidFill>
                <a:srgbClr val="000000"/>
              </a:solidFill>
              <a:latin typeface="Arial"/>
            </a:endParaRPr>
          </a:p>
        </p:txBody>
      </p:sp>
      <p:sp>
        <p:nvSpPr>
          <p:cNvPr id="50" name=""/>
          <p:cNvSpPr/>
          <p:nvPr/>
        </p:nvSpPr>
        <p:spPr>
          <a:xfrm>
            <a:off x="3780000" y="1197000"/>
            <a:ext cx="1871640" cy="131364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ustria attacks Serbia as retaliation for the killing.</a:t>
            </a:r>
            <a:endParaRPr b="0" lang="en-US" sz="2000" spc="-1" strike="noStrike">
              <a:solidFill>
                <a:srgbClr val="000000"/>
              </a:solidFill>
              <a:latin typeface="Arial"/>
            </a:endParaRPr>
          </a:p>
        </p:txBody>
      </p:sp>
      <p:sp>
        <p:nvSpPr>
          <p:cNvPr id="51" name=""/>
          <p:cNvSpPr/>
          <p:nvPr/>
        </p:nvSpPr>
        <p:spPr>
          <a:xfrm>
            <a:off x="6659640" y="907920"/>
            <a:ext cx="1800000" cy="19234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ssia had pledged support for Serbia if they were attacked by Austria</a:t>
            </a:r>
            <a:endParaRPr b="0" lang="en-US" sz="2000" spc="-1" strike="noStrike">
              <a:solidFill>
                <a:srgbClr val="000000"/>
              </a:solidFill>
              <a:latin typeface="Arial"/>
            </a:endParaRPr>
          </a:p>
        </p:txBody>
      </p:sp>
      <p:sp>
        <p:nvSpPr>
          <p:cNvPr id="52" name=""/>
          <p:cNvSpPr/>
          <p:nvPr/>
        </p:nvSpPr>
        <p:spPr>
          <a:xfrm>
            <a:off x="611280" y="3860640"/>
            <a:ext cx="1942920" cy="1923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rmany said they would support Austria if they were attacked by Russia.</a:t>
            </a:r>
            <a:endParaRPr b="0" lang="en-US" sz="2000" spc="-1" strike="noStrike">
              <a:solidFill>
                <a:srgbClr val="000000"/>
              </a:solidFill>
              <a:latin typeface="Arial"/>
            </a:endParaRPr>
          </a:p>
        </p:txBody>
      </p:sp>
      <p:sp>
        <p:nvSpPr>
          <p:cNvPr id="53" name=""/>
          <p:cNvSpPr/>
          <p:nvPr/>
        </p:nvSpPr>
        <p:spPr>
          <a:xfrm>
            <a:off x="3348000" y="4221000"/>
            <a:ext cx="2376360" cy="1618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itain and France told Russia they would support her if she was attacked by Germany.</a:t>
            </a:r>
            <a:endParaRPr b="0" lang="en-US" sz="2000" spc="-1" strike="noStrike">
              <a:solidFill>
                <a:srgbClr val="000000"/>
              </a:solidFill>
              <a:latin typeface="Arial"/>
            </a:endParaRPr>
          </a:p>
        </p:txBody>
      </p:sp>
      <p:sp>
        <p:nvSpPr>
          <p:cNvPr id="54" name=""/>
          <p:cNvSpPr/>
          <p:nvPr/>
        </p:nvSpPr>
        <p:spPr>
          <a:xfrm>
            <a:off x="6227640" y="3716280"/>
            <a:ext cx="2737080" cy="288144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48360" y="4797360"/>
            <a:ext cx="136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break of WWI</a:t>
            </a:r>
            <a:endParaRPr b="0" lang="en-US" sz="2000" spc="-1" strike="noStrike">
              <a:solidFill>
                <a:srgbClr val="000000"/>
              </a:solidFill>
              <a:latin typeface="Arial"/>
            </a:endParaRPr>
          </a:p>
        </p:txBody>
      </p:sp>
      <p:sp>
        <p:nvSpPr>
          <p:cNvPr id="56" name=""/>
          <p:cNvSpPr/>
          <p:nvPr/>
        </p:nvSpPr>
        <p:spPr>
          <a:xfrm>
            <a:off x="298764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86728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27280" y="4581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1692000" y="3068640"/>
            <a:ext cx="561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Two Sid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CENTRAL POW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ttoman Empi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lga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a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r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p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orld War O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out 70 million soldiers took part in WW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had never been a war of this scale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arious empires collapsed as a direct result of the war including the Ottoman, Russian and Austro-Hungarian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ar claimed over 40 million casualties including at least 20 million d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ew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technology such as machine guns, better artillery, advanced logistics, poison gas, aerial warfare and submarines led to more causalities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364000" y="1268280"/>
            <a:ext cx="3086280" cy="49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0" y="1341360"/>
            <a:ext cx="6511680" cy="5050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chine Gu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British World War I submarine D-1"/>
          <p:cNvPicPr/>
          <p:nvPr/>
        </p:nvPicPr>
        <p:blipFill>
          <a:blip r:embed="rId1"/>
          <a:stretch/>
        </p:blipFill>
        <p:spPr>
          <a:xfrm>
            <a:off x="1763640" y="476280"/>
            <a:ext cx="6048360" cy="4700520"/>
          </a:xfrm>
          <a:prstGeom prst="rect">
            <a:avLst/>
          </a:prstGeom>
          <a:ln w="0">
            <a:noFill/>
          </a:ln>
        </p:spPr>
      </p:pic>
      <p:sp>
        <p:nvSpPr>
          <p:cNvPr id="71" name="PlaceHolder 1"/>
          <p:cNvSpPr>
            <a:spLocks noGrp="1"/>
          </p:cNvSpPr>
          <p:nvPr>
            <p:ph type="title"/>
          </p:nvPr>
        </p:nvSpPr>
        <p:spPr>
          <a:xfrm>
            <a:off x="539640" y="544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ubma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5:44:44Z</dcterms:created>
  <dc:creator>OEM</dc:creator>
  <dc:description/>
  <dc:language>en-US</dc:language>
  <cp:lastModifiedBy>OEM</cp:lastModifiedBy>
  <dcterms:modified xsi:type="dcterms:W3CDTF">2009-02-08T08:36:38Z</dcterms:modified>
  <cp:revision>3</cp:revision>
  <dc:subject/>
  <dc:title>World War I</dc:title>
</cp:coreProperties>
</file>