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8.png" ContentType="image/png"/>
  <Override PartName="/ppt/media/image14.jpeg" ContentType="image/jpeg"/>
  <Override PartName="/ppt/media/image21.jpeg" ContentType="image/jpeg"/>
  <Override PartName="/ppt/media/image16.jpeg" ContentType="image/jpeg"/>
  <Override PartName="/ppt/media/image19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22.jpeg" ContentType="image/jpeg"/>
  <Override PartName="/ppt/media/image1.jpeg" ContentType="image/jpeg"/>
  <Override PartName="/ppt/media/image2.jpeg" ContentType="image/jpeg"/>
  <Override PartName="/ppt/media/image4.png" ContentType="image/png"/>
  <Override PartName="/ppt/media/image13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81F87-0D4B-4270-973D-24CD630D0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10332-C813-4176-99FD-E81DB5ADE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DD2CA-F493-4408-AB24-B6A1D85D2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13C1C-1584-4F88-A968-10E410867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C9353-E6C9-4730-811C-1066A133A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F5E5A-A6DD-495F-BE77-5DDD2858D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68965-D304-4468-B450-039014001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4FD48-8E58-4B9D-B418-B0C31014E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FBA1E-6931-4691-AAD0-FC00D2874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DFD7E-34DF-4257-A146-515F08118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31E8F-2A9D-4E12-94C5-F1D72F829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5F5C2-81A9-4805-BEBA-6B3DE9BB9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A1C64-4DE4-4878-830C-E463C765C2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o.nz/imgres?imgurl=http://www.fulbright.no/filestore/Film_72.jpg&amp;imgrefurl=http://www.fulbright.no/EducationUSA_-_Studier_i_USA/Informasjon_om_forskjellige_fag/&amp;usg=__lpRoi7ph5F9nbkwlSnHHffEVUMk=&amp;h=461&amp;w=614&amp;sz=43&amp;hl=en&amp;start=3&amp;tbnid=9E-qYpznEDfT_M:&amp;tbnh=102&amp;tbnw=136&amp;prev=/images%3Fq%3Dfilm%26gbv%3D2%26hl%3Den%26safe%3Dactive%26sa%3DG" TargetMode="External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aperfectworld.org/clipart/entertainment/radio01.gif" TargetMode="External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332000" y="1844640"/>
            <a:ext cx="633708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Snap ITC"/>
              </a:rPr>
              <a:t>Propagand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latin typeface="Snap ITC"/>
              <a:ea typeface="Snap ITC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755640" y="4653000"/>
            <a:ext cx="777708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Snap ITC"/>
              </a:rPr>
              <a:t>Nazi German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latin typeface="Snap ITC"/>
              <a:ea typeface="Snap ITC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3924360" y="3357720"/>
            <a:ext cx="86508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Snap ITC"/>
              </a:rPr>
              <a:t>i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latin typeface="Snap ITC"/>
              <a:ea typeface="Snap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395280" y="57340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3200" spc="-1" strike="noStrike">
                <a:solidFill>
                  <a:srgbClr val="000000"/>
                </a:solidFill>
                <a:latin typeface="Arial"/>
              </a:rPr>
              <a:t>Death lies with Marx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image"/>
          <p:cNvPicPr/>
          <p:nvPr/>
        </p:nvPicPr>
        <p:blipFill>
          <a:blip r:embed="rId2"/>
          <a:stretch/>
        </p:blipFill>
        <p:spPr>
          <a:xfrm>
            <a:off x="2124000" y="1700280"/>
            <a:ext cx="5040360" cy="39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324000" y="5660640"/>
            <a:ext cx="851688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3200" spc="-1" strike="noStrike">
                <a:solidFill>
                  <a:srgbClr val="000000"/>
                </a:solidFill>
                <a:latin typeface="Arial"/>
              </a:rPr>
              <a:t>Posters advertising the film – The Eternal J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image"/>
          <p:cNvPicPr/>
          <p:nvPr/>
        </p:nvPicPr>
        <p:blipFill>
          <a:blip r:embed="rId2"/>
          <a:stretch/>
        </p:blipFill>
        <p:spPr>
          <a:xfrm>
            <a:off x="324000" y="836640"/>
            <a:ext cx="3247920" cy="46292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5076720" y="981000"/>
            <a:ext cx="341316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image"/>
          <p:cNvPicPr/>
          <p:nvPr/>
        </p:nvPicPr>
        <p:blipFill>
          <a:blip r:embed="rId2"/>
          <a:stretch/>
        </p:blipFill>
        <p:spPr>
          <a:xfrm>
            <a:off x="5364000" y="765000"/>
            <a:ext cx="3462480" cy="51850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395280" y="836640"/>
            <a:ext cx="3457440" cy="49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image"/>
          <p:cNvPicPr/>
          <p:nvPr/>
        </p:nvPicPr>
        <p:blipFill>
          <a:blip r:embed="rId2"/>
          <a:stretch/>
        </p:blipFill>
        <p:spPr>
          <a:xfrm>
            <a:off x="5003640" y="836640"/>
            <a:ext cx="3740400" cy="554508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250920" y="177336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"Health, child protection, fighting poverty, aiding travellers, community, helping mothers: These are the tasks of the National Socialist People's Charity. Become a member!"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95280" y="1484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333399"/>
                </a:solidFill>
                <a:latin typeface="Arial"/>
              </a:rPr>
              <a:t>Rad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39640" y="2420640"/>
            <a:ext cx="82296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tler is considered to have been one of the greatest public speakers of all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2556000" y="3573360"/>
            <a:ext cx="4176720" cy="277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395280" y="2133720"/>
            <a:ext cx="83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adio wardens appointed to report on people’s reactions to specific broadca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visions made for cheap radios called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Volksempf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ä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nger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(people’s receiv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Volksempf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ä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nger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uld not pick up foreign broadca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etween 1932-9 the number of families with radios rose from 25% to 7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524720" y="189000"/>
            <a:ext cx="1370160" cy="187164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324000" y="189000"/>
            <a:ext cx="136980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148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Fil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95280" y="2636640"/>
            <a:ext cx="822960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m was used to show Hitler in a positive light as often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azi’s commissioned several films, each carefully portraying a certain ima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m going quadrupled between 1933 and 194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95280" y="620640"/>
            <a:ext cx="2305080" cy="17287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6300720" y="404640"/>
            <a:ext cx="2448000" cy="18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zi government bought up shares in 4 major film compan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m going quadrupled between 1933 and 194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er 1000 films produced during the Third Re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1942 film companies completely state controll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95280" y="126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Newspa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68360" y="2332080"/>
            <a:ext cx="8229600" cy="39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Censoring newspapers ensures that only the news you want people to read is available to the pub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Nazi party members wrote many articles for the press, ensuring that the message was always posi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Many publications were ban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179280" y="0"/>
            <a:ext cx="2097360" cy="22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3634920" y="1628640"/>
            <a:ext cx="534996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1933 there were 4,700 daily newspapers, 3% controlled by NSD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1944 997 daily newspapers, 82% controlled by NSD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rom 1933 all editors and journalists had to be accredited by Goebb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179280" y="2708280"/>
            <a:ext cx="3168720" cy="21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68360" y="198900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Make the lie bi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Make it simp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Keep saying it, an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Eventually they will believe it</a:t>
            </a:r>
            <a:r>
              <a:rPr b="0" lang="en-GB" sz="3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3200" spc="-1" strike="noStrike">
                <a:solidFill>
                  <a:srgbClr val="000000"/>
                </a:solidFill>
                <a:latin typeface="Arial"/>
              </a:rPr>
              <a:t>Adolf Hitler</a:t>
            </a:r>
            <a:r>
              <a:rPr b="0" lang="en-NZ" sz="3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50560" y="691920"/>
            <a:ext cx="3887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333399"/>
                </a:solidFill>
                <a:latin typeface="Arial"/>
              </a:rPr>
              <a:t>Mus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78920" y="184428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rmany had a rich classical tradition which suited the Nazi’s cultural propaganda obj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wish composers, e.g. Mahler and Mendelssohn were ban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nazi german propaganda"/>
          <p:cNvPicPr/>
          <p:nvPr/>
        </p:nvPicPr>
        <p:blipFill>
          <a:blip r:embed="rId2"/>
          <a:stretch/>
        </p:blipFill>
        <p:spPr>
          <a:xfrm>
            <a:off x="5148360" y="1125360"/>
            <a:ext cx="3809880" cy="532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1557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How successful was Nazi propagand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68360" y="2852640"/>
            <a:ext cx="822960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t strengthened support for Hitler, but not its policies e.g. anti-Semit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azi’s gained support from propaganda when it played on traditional German prejudices such as nationalism and a fear of Bolshevis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May not have appealed to all groups in German societ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9640" y="148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333399"/>
                </a:solidFill>
                <a:latin typeface="Arial"/>
              </a:rPr>
              <a:t>What is propagand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8360" y="2852640"/>
            <a:ext cx="82296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paganda is the use of the Media to aggressively promote one point of vie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paganda is ‘brainwashing’ of the public, convincing them of an ideological viewpoi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148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What is Censorship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94920" y="2708280"/>
            <a:ext cx="525636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nsorship is the suppression of speech or deletion of communicative material which may be considered objectionable, harmful or sensitive, as determined by a censo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796000" y="2852640"/>
            <a:ext cx="3051000" cy="30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395280" y="2491920"/>
            <a:ext cx="5338800" cy="38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Nazi’s quickly recognised the value of the media. From the early days of the party they used aggressive advertising to promote the Nazi ide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See full size imag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11280" y="260280"/>
            <a:ext cx="1574640" cy="19447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6012000" y="3500280"/>
            <a:ext cx="2857320" cy="24861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5"/>
          <a:stretch/>
        </p:blipFill>
        <p:spPr>
          <a:xfrm>
            <a:off x="5867280" y="549360"/>
            <a:ext cx="3019680" cy="21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610920" y="1628640"/>
            <a:ext cx="447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Goebbels was in charge of ‘enlightening’ the German publi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Verdana"/>
              </a:rPr>
              <a:t>Hitler gave him the title of Minister of Propaganda and Enlighten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5364000" y="1628640"/>
            <a:ext cx="327852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8920" y="1699920"/>
            <a:ext cx="4824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333399"/>
                </a:solidFill>
                <a:latin typeface="Arial"/>
              </a:rPr>
              <a:t>What methods did </a:t>
            </a:r>
            <a:br>
              <a:rPr sz="4000"/>
            </a:br>
            <a:r>
              <a:rPr b="0" lang="en-NZ" sz="4000" spc="-1" strike="noStrike">
                <a:solidFill>
                  <a:srgbClr val="333399"/>
                </a:solidFill>
                <a:latin typeface="Arial"/>
              </a:rPr>
              <a:t>the Nazi’s use?</a:t>
            </a: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0920" y="3213000"/>
            <a:ext cx="352908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os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ad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l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ewspap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5148360" y="1052640"/>
            <a:ext cx="3670200" cy="52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23640" y="691920"/>
            <a:ext cx="316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333399"/>
                </a:solidFill>
                <a:latin typeface="Arial"/>
              </a:rPr>
              <a:t>Post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24000" y="1773360"/>
            <a:ext cx="5194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osters are cheap and easy to distribu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laced in prominent positions they act as a constant reminder of ide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an be used for many purpo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724360" y="1700280"/>
            <a:ext cx="29260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24000" y="57337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3200" spc="-1" strike="noStrike">
                <a:solidFill>
                  <a:srgbClr val="000000"/>
                </a:solidFill>
                <a:latin typeface="Arial"/>
              </a:rPr>
              <a:t>Vote Hitl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68360" y="836640"/>
            <a:ext cx="3241800" cy="47530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5508720" y="692280"/>
            <a:ext cx="3219480" cy="490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2T07:14:21Z</dcterms:created>
  <dc:creator>OEM</dc:creator>
  <dc:description/>
  <dc:language>en-US</dc:language>
  <cp:lastModifiedBy>OEM</cp:lastModifiedBy>
  <dcterms:modified xsi:type="dcterms:W3CDTF">2009-03-09T07:26:46Z</dcterms:modified>
  <cp:revision>7</cp:revision>
  <dc:subject/>
  <dc:title>Slide 1</dc:title>
</cp:coreProperties>
</file>