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C1F-D05A-4BB0-B6C6-44B7B596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723-A63C-4B97-AE3B-5C246338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CE2-002A-4B40-968A-EC0D10AA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672-19CC-461B-A37B-98D4CBC2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19E-C2C1-4210-851B-3BD75E8F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62A-905C-406E-85D5-09F32640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792-9628-4AB9-A02B-DC241F7E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7EA-632F-48C0-BA69-2624F70E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77D-BA97-430F-AE2E-255DDE5A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F41-EE48-465D-A6D9-39E02E7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676-A8D8-44C4-B786-4C0E0393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214-255B-4805-9341-D4280504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88CC-B868-4C6F-AA2D-42E548682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fulbright.no/filestore/Film_72.jpg&amp;imgrefurl=http://www.fulbright.no/EducationUSA_-_Studier_i_USA/Informasjon_om_forskjellige_fag/&amp;usg=__lpRoi7ph5F9nbkwlSnHHffEVUMk=&amp;h=461&amp;w=614&amp;sz=43&amp;hl=en&amp;start=3&amp;tbnid=9E-qYpznEDfT_M:&amp;tbnh=102&amp;tbnw=136&amp;prev=/images%3Fq%3Dfilm%26gbv%3D2%26hl%3Den%26safe%3Dactive%26sa%3D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erfectworld.org/clipart/entertainment/radio01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844640"/>
            <a:ext cx="63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Propagan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65300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Nazi Ger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335772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ath lies with Marx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"/>
          <p:cNvPicPr/>
          <p:nvPr/>
        </p:nvPicPr>
        <p:blipFill>
          <a:blip r:embed="rId2"/>
          <a:stretch/>
        </p:blipFill>
        <p:spPr>
          <a:xfrm>
            <a:off x="2124000" y="1700280"/>
            <a:ext cx="50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516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ters advertising the film – The Eternal J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"/>
          <p:cNvPicPr/>
          <p:nvPr/>
        </p:nvPicPr>
        <p:blipFill>
          <a:blip r:embed="rId2"/>
          <a:stretch/>
        </p:blipFill>
        <p:spPr>
          <a:xfrm>
            <a:off x="324000" y="836640"/>
            <a:ext cx="3247920" cy="462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41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image"/>
          <p:cNvPicPr/>
          <p:nvPr/>
        </p:nvPicPr>
        <p:blipFill>
          <a:blip r:embed="rId2"/>
          <a:stretch/>
        </p:blipFill>
        <p:spPr>
          <a:xfrm>
            <a:off x="5364000" y="765000"/>
            <a:ext cx="346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57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mage"/>
          <p:cNvPicPr/>
          <p:nvPr/>
        </p:nvPicPr>
        <p:blipFill>
          <a:blip r:embed="rId2"/>
          <a:stretch/>
        </p:blipFill>
        <p:spPr>
          <a:xfrm>
            <a:off x="5003640" y="836640"/>
            <a:ext cx="374040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alth, child protection, fighting poverty, aiding travellers, community, helping mothers: These are the tasks of the National Socialist People's Charity. Become a member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ler is considered to have been one of the greatest public speak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1767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 wardens appointed to report on people’s reactions to specific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sions made for cheap radios call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eople’s rece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not pick up foreign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1932-9 the number of families with radios rose from 25% to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was used to show Hitler in a positive light as often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’s commissioned several films, each carefully portraying a certai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 government bought up shares in 4 major film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films produced during the Third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2 film companies completely state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97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34920" y="1628640"/>
            <a:ext cx="5349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33 there were 4,700 daily newspapers, 3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44 997 daily newspapers, 82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1933 all editors and journalists had to be accredited by Goeb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168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the li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Keep saying it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ventually they will believe i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dolf Hitler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had a rich classical tradition which suited the Nazi’s cultural propaganda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composers, e.g. Mahler and Mendelssohn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nazi german propaganda"/>
          <p:cNvPicPr/>
          <p:nvPr/>
        </p:nvPicPr>
        <p:blipFill>
          <a:blip r:embed="rId2"/>
          <a:stretch/>
        </p:blipFill>
        <p:spPr>
          <a:xfrm>
            <a:off x="5148360" y="1125360"/>
            <a:ext cx="38098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successful was Nazi propag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trengthened support for Hitler, but not its policies e.g. anti-Semi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i’s gained support from propaganda when it played on traditional German prejudices such as nationalism and a fear of Bolshev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not have appealed to all groups in German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orship is the suppression of speech or deletion of communicative material which may be considered objectionable, harmful or sensitive, as determined by a cen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51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53388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5746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549360"/>
            <a:ext cx="30196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itler gave him the title of Minister of Propaganda and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8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What methods did </a:t>
            </a:r>
            <a:br>
              <a:rPr sz="4000"/>
            </a:b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the Nazi’s use?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3213000"/>
            <a:ext cx="352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670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ote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4180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3219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4:21Z</dcterms:created>
  <dc:creator>OEM</dc:creator>
  <dc:description/>
  <dc:language>en-US</dc:language>
  <cp:lastModifiedBy>OEM</cp:lastModifiedBy>
  <dcterms:modified xsi:type="dcterms:W3CDTF">2009-03-09T07:26:46Z</dcterms:modified>
  <cp:revision>7</cp:revision>
  <dc:subject/>
  <dc:title>Slide 1</dc:title>
</cp:coreProperties>
</file>